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603-64B9-4A93-B1DA-B3933CDC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C9F-CC66-4A89-AEA9-0A0B5BAA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225-78D5-4048-9580-4E91E856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D56-CDB5-4310-ADAA-7DD18A8D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C13-CD33-4A20-982B-5AD20D35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284-83D7-44DB-8700-8097880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F48-2A4F-416A-B903-A1C9230A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C72-0456-4F8F-BF73-535C20F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AB0-CE86-441E-AB69-37572B7D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21C-492C-4C5E-A561-EFB1174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88E-A76B-4A07-9172-AEC507C9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38D-A44A-4E14-8187-69821187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4D1C-D70A-42D9-AEBA-57DF71E3144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1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Ul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41 employees are in Ulm under contrac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nsulting company works on alternatives for closing, result are promised for cw 2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negotiations on reconciliation of interest started for the case if decision persis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ditions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o transfer or scrapping of the EMC-chamber before 2nd of Ju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s management asks for no active transfer proposals to single employees by line manag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epartment mangers are requested to set up plans for moving and closing down up to the 28th of May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2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elopment effort after 1st of June will be refunded to Motorola, has to be planned as consulting cost in PMC, list of named engineers are part of the contrac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sset accounting unclear, transfer of equipment has to be handled by carve out team in a centralized w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nly a few SW-contracts (site related) will be transferr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ease agreement for remaining engineers as well as customer care, server room and storage area are under discuss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rver room, WAN/LAN connection for project finishing are under prepar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T application data transfer will be planned cw2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ransfer plan for each function is available, has to be more detailed in some cas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oving plans Aal internal are under prepar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ndover already start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12T15:13:57Z</dcterms:modified>
  <cp:revision>53</cp:revision>
  <dc:subject/>
  <dc:title>PowerPoint 簡報</dc:title>
</cp:coreProperties>
</file>